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93E-64B1-43FE-AE88-8619DEEA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AFD-7534-4787-B347-A8A58460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557-0C9B-47A2-AEC1-8B01433C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16C-59E8-4CF6-9A99-80661CBB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EB5-AEF5-4B75-9CC2-ECB78248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A5D-930B-4B74-94F7-DE788EC3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DA3-17BC-4076-8612-B5A97A06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541-9A0B-4C1F-8DFF-8F518472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A67-1CF5-4E40-8EFD-7033A40C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B87-6061-43A1-8127-94E4351D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3FC-2D5A-4FA5-A43E-64E0F70A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918-752E-43A5-86A7-4CDAB88A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3C0B-D329-4569-BE79-042F2E804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Placeholder 6" descr="DSC00823.jpg"/>
          <p:cNvPicPr/>
          <p:nvPr/>
        </p:nvPicPr>
        <p:blipFill>
          <a:blip r:embed="rId1"/>
          <a:stretch/>
        </p:blipFill>
        <p:spPr>
          <a:xfrm>
            <a:off x="2478240" y="304920"/>
            <a:ext cx="3832200" cy="5108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b la germina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rmination of the bean se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Placeholder 4" descr="DSC00817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olutia fasolei de la bob la plant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evolution of the bean from the seed to the pl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perea tegumentulu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eaking of the tegu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TEMP.PETRE-PC.002\Desktop\poze fasole 2\DSC00822.jpg"/>
          <p:cNvPicPr/>
          <p:nvPr/>
        </p:nvPicPr>
        <p:blipFill>
          <a:blip r:embed="rId1"/>
          <a:stretch/>
        </p:blipFill>
        <p:spPr>
          <a:xfrm>
            <a:off x="2514600" y="15228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Placeholder 4" descr="DSC00821.jpg"/>
          <p:cNvPicPr/>
          <p:nvPr/>
        </p:nvPicPr>
        <p:blipFill>
          <a:blip r:embed="rId1"/>
          <a:stretch/>
        </p:blipFill>
        <p:spPr>
          <a:xfrm>
            <a:off x="2478240" y="304920"/>
            <a:ext cx="3832200" cy="5108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aritia radacinii si a tulpinite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ppearance of the root and the ste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Placeholder 4" descr="DSC00820.jpg"/>
          <p:cNvPicPr/>
          <p:nvPr/>
        </p:nvPicPr>
        <p:blipFill>
          <a:blip r:embed="rId1"/>
          <a:stretch/>
        </p:blipFill>
        <p:spPr>
          <a:xfrm>
            <a:off x="2478240" y="228600"/>
            <a:ext cx="3889080" cy="5184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aritia cotiledoanel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ppearance of the cotyled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Placeholder 4" descr="DSC00819.jpg"/>
          <p:cNvPicPr/>
          <p:nvPr/>
        </p:nvPicPr>
        <p:blipFill>
          <a:blip r:embed="rId1"/>
          <a:stretch/>
        </p:blipFill>
        <p:spPr>
          <a:xfrm>
            <a:off x="2478240" y="457200"/>
            <a:ext cx="4114800" cy="495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aritia frunzulitel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ppearance of the leav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Placeholder 4" descr="DSC00818.jpg"/>
          <p:cNvPicPr/>
          <p:nvPr/>
        </p:nvPicPr>
        <p:blipFill>
          <a:blip r:embed="rId1"/>
          <a:stretch/>
        </p:blipFill>
        <p:spPr>
          <a:xfrm>
            <a:off x="2478240" y="228600"/>
            <a:ext cx="3889080" cy="5184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antut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l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Placeholder 4" descr="DSC00824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antuta cu frunze adevar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lant with real leav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Placeholder 4" descr="DSC00825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iledoanele se usuca si c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tyledons dry and fall dow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Placeholder 4" descr="DSC0083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1:15:21Z</dcterms:created>
  <dc:creator>PETRE</dc:creator>
  <dc:description/>
  <dc:language>en-US</dc:language>
  <cp:lastModifiedBy>s</cp:lastModifiedBy>
  <dcterms:modified xsi:type="dcterms:W3CDTF">2010-01-19T10:18:47Z</dcterms:modified>
  <cp:revision>5</cp:revision>
  <dc:subject/>
  <dc:title>Slide 1</dc:title>
</cp:coreProperties>
</file>